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869-22D3-4F69-A1DD-C5937FFD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099-F862-4F6C-B406-A0F6D30E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71F-7DA4-45FB-A134-29426905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F03-F062-478B-8C0C-E7967902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E3553-78CE-4C09-B76A-2B51297A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00C64-FDD0-4BE2-93A2-2DCACF34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B9FD-B866-42B1-87B0-596F6B1A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FB960-4FB3-40E5-94F2-4C9C3496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5D1CA-BF97-420F-BCE3-0F6F6B64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8CA3F-2EF0-41CF-BD28-0DD6C456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A0781-B39C-4A75-8F3E-93CD42ED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04E-8DC8-4DF9-B8FD-9EDCDBB7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7425F-8FB7-46AB-AB43-5D9E188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D1997-8353-412A-9FAA-15238235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D6AF2-22EB-4639-9FF8-81060B04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5BD39-C30B-40FA-8948-34C5F0DF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2551B-8A4F-46D4-BE53-898DDE0F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BE3-A244-4058-80D2-85A0707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F04-8AF8-45D4-8AC8-15DDEECD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0F4-12B8-4A43-967D-9EBD8C3B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9E2-CE60-4BF5-81D8-4CE0CC4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577-430F-46CF-9092-F6DFEC10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BDE-6494-4BF8-8437-12B13F88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F09-00D8-46F6-85EB-413C003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F9C5-385D-45C6-B2F3-6F2871C084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94FD-7BFE-4B91-8FEE-5F8F416FE3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ld at Peace by J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282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5315040"/>
            <a:ext cx="1593720" cy="1542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550280" y="5315040"/>
            <a:ext cx="1593720" cy="1542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-38160" y="-23760"/>
            <a:ext cx="1220760" cy="1724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124080" y="3352680"/>
            <a:ext cx="259092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can’t separate peace from freedom because no one can be at peace unless he has freedom.”  Malcolm 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25960" y="4478400"/>
            <a:ext cx="139680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re is no way to peace, peace is the way.”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.J. Mus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5840" y="42861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00760" y="45147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e comes from within, don’t seek without.”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ddh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210440" y="5079960"/>
            <a:ext cx="1933560" cy="1778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145120"/>
            <a:ext cx="1828800" cy="1712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e is it’s own reward.” Mahatama Gandh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67000" y="4849920"/>
            <a:ext cx="19144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wish to experience peace you must give peace to others.” Tenzin Gyats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71800" y="48006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e is not the absence of conflict, but the ability to cope.”  Unknow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2096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39080" y="5251320"/>
            <a:ext cx="1974600" cy="14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74680" y="5208480"/>
            <a:ext cx="1974960" cy="1486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047000" y="125280"/>
            <a:ext cx="193032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81080" y="66600"/>
            <a:ext cx="193032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895480" y="3218040"/>
            <a:ext cx="19306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49:43Z</dcterms:created>
  <dc:creator>Vanessa Collier</dc:creator>
  <dc:description/>
  <dc:language>en-US</dc:language>
  <cp:lastModifiedBy>Joni George</cp:lastModifiedBy>
  <dcterms:modified xsi:type="dcterms:W3CDTF">2010-04-26T18:58:30Z</dcterms:modified>
  <cp:revision>7</cp:revision>
  <dc:subject/>
  <dc:title>You can’t separate peace from freedom because no one can be at peace unless he has his freedom</dc:title>
</cp:coreProperties>
</file>